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19B-3675-42F8-AC63-3CBEEF4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302-6F4D-4284-9166-6C4C8AE5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209-7361-486D-A3DF-F3A69154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F70-6BFB-48B3-83D3-8F7804E9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B2D-715D-43FB-917C-F7D116D1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B592-F436-4C3B-BAE4-895341C4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0DC-1C86-4BCC-89A2-441EB5C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F45-C8E8-4CAF-991C-3908928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A730-7483-425F-B13C-9B7ACFE2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291A-E735-48C0-9311-C375313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4755-3EA7-4C8A-91C1-7D41057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08D-49BD-4FC8-85DF-D8CC457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F009-AD5D-4FFF-B3B6-C0C48EF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F163-D8B8-4646-8D7C-2702B69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D2CC-B1A1-4981-9DAF-2FDC7BCE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4052-AF62-42FB-A9CF-F243B5F0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CA77-F48B-4000-9E82-F805187A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9433-99FF-4F8E-9263-FD90EBDA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587D-DCC2-4728-B032-D3B3C479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3005-0D7D-4CE3-BC3D-AF78E5F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6D7E-EA60-4000-A24C-D4DF1CD5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9E71-EB89-4E5A-B476-67DF2E2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8F3-55EC-4504-8723-601771ED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0397-0C7B-443F-94E7-0A8B789C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221C-21BA-40AE-ACB9-2F791C2E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E859-E716-4F02-BCD7-977D700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0163-212A-4CE0-AF2E-F47E7F2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85C2-A87D-42A5-AFBD-3C75120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3962-43AD-4B3D-8292-20FB3810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5A69-9608-483A-9FF3-EBA28F9D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6460-B418-47B4-9D23-60CA921E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95EC-F341-47ED-A47D-D61AA0D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281D-1CAB-45B2-B752-E76453C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8FF-E2A8-487D-94E3-2C08F226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F715-8DC4-46FD-9DAF-27BA561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086D-CF43-4C0C-A2BB-5104B5D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207A-0FB9-4083-BE04-232EB282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D87F-7E1A-423B-8B2E-10EF7D8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0C10-495E-4AD6-A20D-605648B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139B3-81F1-4A50-8C23-5177874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1575-5BD9-4C6C-A370-297990C8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B6CF-062B-4953-B645-4484C52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18BC-1C31-49EC-BF0D-503B61C8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14CE-A5D3-4D27-9590-6D5C8B5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CB1-42F3-4D25-BD19-EF5FFAC0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6903-A7E2-4481-A84C-E9E56E13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246B-5B9B-4A87-B57E-2C1D67C8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AB04-305A-4329-90FC-8F692939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FDB0-3795-46D7-B6C6-9FF4DF41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B13A-CA13-4ED0-A446-891E2BA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227A7-66F4-4BE8-8D33-A6D74C1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F830-257F-4F77-8EE2-B4EC79F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9AC28-7030-4229-A35B-FB59EB0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103F-03EE-4381-B273-67F425C0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AB12-0EB6-423B-80F2-C01EA032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E05-0D56-4F92-B043-EB4F161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C636-597F-4483-BDEE-17161808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4315-3F63-4A5B-A4DC-450E81CE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D9EE-E40A-40AD-B519-C3769A3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4AD0-0461-486A-813D-904D494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768C-2B96-4720-86BE-CAF7F31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D528-B8E5-425A-A47F-7B8A198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3BA4-0DE7-4080-915C-AB20B9D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72F8-75F8-43F0-BB9D-5A9DB55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6245-5894-4C2F-8ED5-792A705D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B57D-C842-4895-AAFB-C8C95DA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05F-CD61-4A35-BC6D-3747644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4F58E-4324-4F89-8134-4A46E48E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C3C5-FE80-4F8B-8D59-E90158A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2DC00-98DB-416D-A88E-1276B14E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188B-D184-4172-AB9C-AC8E32A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1FA8-159D-49DC-A825-C7FA854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FCA2-9729-43F2-BFD2-B5EBB22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5AF0-001F-421B-93EB-27742FC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576D-4B2B-4129-9482-3D4937E2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B5AD-6489-4E37-92C3-3E416F1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EE54-621D-4539-B0B3-38204C8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087-0F5F-45CF-9B7D-7DF588A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F67B-8AC7-485B-82B4-495CDEA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4FD6-DB58-47EC-9B93-F1765FC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7AB3-3609-41B6-977E-C4179E9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BC37-34D2-4642-8CD2-76D48059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C340-805E-423C-A0C0-E70C261F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D8A-1050-4F82-B3F0-2A53320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42F6C-E556-461B-BAE6-A43D7D1E2DA0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BC318-9FBB-4A33-BC8E-2DD7A87C4DC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D977D-3174-42DC-9AF0-ECE602E9159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A5B98-44FD-45C1-B4FC-B5050EC91FA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4D37E-18F8-473F-BD0B-4F8270C7D34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5B871-83A9-4895-BA41-37627D6F09C9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453DC-7A0F-424F-88CE-42BD45A255F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F65A7-9D4D-4231-88CB-3F50C6418AB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A9290-A9AA-44B6-AFDD-E9C3E9F935E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135B4-C33A-4D2D-8BBA-7620E91FC3FB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605C8-24EC-4125-AAAE-38576FF66BD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9217F-F5E5-4965-B391-22E05053ACB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3FED7-F66E-48C2-9D38-93BA0F5C293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D8F1D-AC1E-4575-ABC4-ABAB9029505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0756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Referral of CKD to Nephrologist 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 Light"/>
              </a:rPr>
              <a:t>MODULE 3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KONG WEI YE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PUSAT PERUBATAN UNIVERSITI KEBANGSAAN MALAYSIA, KUALA LUMPU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ILIZA IDRI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KLINIK KESIHATAN AMPANGAN, NEGERI SEMBILA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3C848-607F-4542-8203-19C333F9F91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B559C-21DD-4318-A16B-CEAA1880C8E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4" descr=""/>
          <p:cNvPicPr/>
          <p:nvPr/>
        </p:nvPicPr>
        <p:blipFill>
          <a:blip r:embed="rId1"/>
          <a:stretch/>
        </p:blipFill>
        <p:spPr>
          <a:xfrm>
            <a:off x="809640" y="363600"/>
            <a:ext cx="75247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mmediate 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KI superimposed on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wly detected ESR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celerated or malignant hyperten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fe-threatening hyperkal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spected rapidly progressive glomerulonephriti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87B31-A1A4-4322-892A-CB0EEA46F36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linical ti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with CKD and renal outflow obstruction should be referred to urological servic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en referring to a nephrologist, ensure patient ha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ial 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ferably a recent renal ultrasound repo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hronic Kidney Disease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D46AA-72EA-413A-861A-B490ED174E2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Case scenario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50DE9-FB25-4079-8D1B-34CB6881D60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se scenario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   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0.6 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P is 134/78 mmHg on single antihypertensive agent and is otherwise health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DBCEA-90EC-42A8-86C2-B222FDD4290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A195B-5617-42E0-BA32-C7364D4CEBB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- 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ly stable eGFR: expect declin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&lt;2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isk of progression: mild proteinuria, good control of BP, single antihypertensive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monitored and managed in a primary care set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13D6C-23B6-49E9-9244-E523F2AD06A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How to monitor in Klinik Kesihata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846080"/>
            <a:ext cx="78534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optimal BP contro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ppropriate antihypertensive agents i.e. ACEi/ARB and optimise dosage for proteinuria redu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 modifications: diet, weight management, quit 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e patient to avoid nephrotoxic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RP/proteinuria regularly 3 - 6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for complications: FBC, CaPO4 6 - 12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5B781-8D35-4371-B501-5EC2DD5B7BA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cenario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2.4 g (0.5 g 1 year ago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e is on three antihypertensive agents including perindopril 8 mg OD and her BP is 168/94 mmH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BDE87-1BB5-4B53-B758-33FB77FC5F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1DE60-AFAD-46B0-B3DD-65DA2B057D4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indications and timing of referral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cognise the possibilities of AKI in primary care sett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llustrate the collaborations between nephrologists and primary care specialists in the management of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73FB4-2331-489E-9EA2-A3EF0954C09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Y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 High risk of progression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(and increasing trend of)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trolled BP despite on 3 antihypertensive agents (including maximum dose of ACE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 Referral to nephrologis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4FA7-09ED-4558-8F62-6C89BEFBE99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gency of the referr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n doubt, communicate with the nephrologist (e.g. if patient needs urgent attention for suspected RPGN, severe AKI superimposed on CKD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o do before referring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erably a recent renal ultrasound (but do not delay the referra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0424-BA5F-4DBA-AD62-0FC77464CB9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ared-care with effective communication between the nephrologist and primary healthcare provider is strongly encourage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rect consultation on indication and timing of referr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eedback on patients’ progress: update single book, suggestions/recommendations on medications and monitor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aring of the trend of blood resul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EF4C6-B683-4431-9479-56C3F1858A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64050-A67B-43A1-81E0-3AC6F942309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nd-stage renal disease (ESRD), and high morbidity and mortality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. Levey AS, et al. Kidney Int. 2007;72(3):247-59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8AC07-1814-4D97-92A6-31E6A79F020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and its expecte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and nephrologists is paramount in ensuring the best care for the pati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29F27-3BD6-496C-B4D9-AB5D9DB06B3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do we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ral to nephrologist is indicated when a healthcare provider feels that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dditional expert input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is required for patient’s managemen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aim may b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rule out acute kidney injury (AK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delay CKD progres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prepare for renal replacement therapy (RR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C70CA-1760-473E-83EE-CBC8EBCE71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refer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ly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ferral to nephrologist has the benefit in reducing mortality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spital stay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, achieving hig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emoglobin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vels and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ter dialysis preparation compared with late referral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SR involving 27 studies and 17,646 participants, early referral was commonly defined as 3 months before commencing dialysis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NT to prevent 1 death at 12 months = 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ean difference of hospital stay = 7.7 da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eritoneal dialysis uptake more common (OR=2.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ess temporary vascular access (OR=0.18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4. Smart NA, et al. Am J Med. 2011;124(11):1073-80.e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452A1-8F0B-4174-AE82-A11A3366E52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en to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is no clear evidence to recommend indications of referral to nephrologist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look at the trend of SCr and eGFR when deciding on the urgency of referral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optimal time depends on the aim of referral which must always be individualised, taking into consideration the patient’s co-morbidities, functional status and life expectanc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980C5-52BB-4EAE-B131-36F73D77216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846080"/>
            <a:ext cx="84312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specific treatment of the underlying renal condition (treat GN, etc.), which will delay, halt or even reverse the resulting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de whether patients need further investigations (imagings, renal biospy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RP, GFR and proteinuria measurements to guide treatm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pressure and proteinuria control with appropriate medications (treat to appropriate targe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and management of CKD complications (renal anaemia, CKD-Mineral Bone Disorder, metabolic acidosis, malnutrition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D122E-BFD5-4599-9068-413C0BDB5CD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atients with more advanced CKD, nephrologists ca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/intensify all treatments described abo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with patient/family to decide on the most suitable modality of R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 appropriate dialysis access in a timely manner for the pati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timing of RRT initi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6B273-635F-4193-AB87-304B4F416F0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27:28Z</dcterms:modified>
  <cp:revision>161</cp:revision>
  <dc:subject/>
  <dc:title>SCREENING &amp; DIAGNOSIS</dc:title>
</cp:coreProperties>
</file>